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895-9B46-4317-BB86-90BAD623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B7F-076D-4566-B02A-C271DFD7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CB1-8DD6-4D06-8EE0-C535B940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21C-A6B8-4DAE-B9EF-FE223BDE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9602-6C68-48AB-9173-F731AB56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12C8-7C08-4751-B232-B953AC40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DA89-DE20-4FDD-B0CD-C8A47730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C472-A987-48DA-93BC-2C1AF48F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D374-F580-4719-9C00-A0497D0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DDBD-72C6-4BF1-9C7B-5816E83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B37E-09FA-4FB1-95D4-7FFF547C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A9F-A32D-4E86-A585-2E972C7F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799F-0E8B-4566-9238-72DEAE0C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29EC-72A2-4102-879A-C76E7F5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84ED-63DB-470A-809E-E019C72F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3403-ADAE-4028-BD8A-716A64A5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3744-2089-4994-AF04-8A9F766E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D94-B04D-4A49-AEA0-074ECBB6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38A-D08F-49E9-A7BC-38BB6610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CAB-51D3-49B9-97FC-EB316480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A10-79B3-443E-AD15-8C5B8FB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EB2-75A3-408F-A38C-F7B98E7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61F-BABE-458D-997B-810EDC3C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3BE-A033-4E1F-9D52-8BD65E3B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9F79-16B7-44ED-B64C-0B3DDED8130C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C6A3-7D67-4F20-B1F7-26668876B4AD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757080" y="836280"/>
            <a:ext cx="67816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L’ ipert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920" y="2852640"/>
            <a:ext cx="64008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Che cos’ è un ipert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Progettazione e realizzazione di              ipert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a re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ntenuti sono scomposti con la massima fless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nodo ha un numero variabile di collegamenti in entrata e in us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sultazione a volte può apparire dispersiva, ma l’ipertesto risulta ricco e v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2752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cc"/>
                </a:solidFill>
                <a:latin typeface="Arial"/>
              </a:rPr>
              <a:t>I due COMPONENTI di un ipertes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nodo: costituisce una unità di informazione autosufficiente e compiuta, e può corrispondere a meno di una pagina o a più p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link: viene attivato tramite mouse, ed è riconoscibile in quanto su di esso il cursore cambia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cc"/>
                </a:solidFill>
                <a:latin typeface="Arial"/>
              </a:rPr>
              <a:t>In breve, un buon ipertesto deve offrire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à di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eplicità di prec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plicità di consul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Facciamo chiarezza su alcuni termini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pertesto: documento mono-mediale e non seque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ultimediale: elaboratore in grado di gestire elementi testuali e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permedia: documento con elementi multimediali e non sequen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rattivo: software che consente di ottenere risposte rap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’ipertesto segue lo stesso processo del nostro pensiero: riflettiam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68407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un’idea su un argomento ne nascono altre su altri argomenti alle quali si associano di nu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ostra mente formula idee parallelamente su fronti diversi, procedendo secondo un metodo di associ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Cos’ è un ipertest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crittura ipertestuale è una nuova forma espressiva e, in una certa misura, anche un nuovo modo di pensare il sapere, di trattare e rielaborare le informazioni, di organizzare la conoscenza. Esso è fornito di collegamenti che permettono di accedere ad altre parti del testo o ad altri documenti permettendo una consultazione non seque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’ ipertesto offr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modo nuovo e libero di costruire il pens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sibilità di dare spazio alla propria fant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reazione di una rete di testi collegati fra loro da tante connes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e fasi principal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io: definisce l’area di competenza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zione: crea l’astrazione del prodotto, definendone le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: consolida la fase precedente, formalizzandolo tramite disegni e mod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zzazione: crea il prototipo e lo coll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zione:rilascia il prodo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Costruzione di un ipertes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tura log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ssi del legame ipertes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tura reticolare dei contenuti (sequenziale, gerarchica, a griglia, a r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sequenzia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nodo introduce i concetti del nodo successivo in modo lin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usa quando si desidera eliminare i pericoli della dispersione nella consul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enta sequenza della consultazione può essere vivacizzata dalla possibilità di saltare alcuni n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gerarch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uo argomento può essere suddiviso in più argomenti secondo una gerarchia “ad alb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sultazione è facilitata dalla scelta dei percorsi che si diramano divenendo sempre più specif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a grig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contenuti possono essere scomposti secondo due criter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n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ratific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modo che ogni segmento possa essere visitato “in vertic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ante  Tasso  Ve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Op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Cor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1:07:10Z</dcterms:created>
  <dc:creator>Los Salseros</dc:creator>
  <dc:description/>
  <dc:language>en-US</dc:language>
  <cp:lastModifiedBy>Studente</cp:lastModifiedBy>
  <dcterms:modified xsi:type="dcterms:W3CDTF">2007-05-29T07:56:12Z</dcterms:modified>
  <cp:revision>3</cp:revision>
  <dc:subject/>
  <dc:title>L’ ipertesto</dc:title>
</cp:coreProperties>
</file>